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40B-718A-4D66-BB2F-FCB84F85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0AC-9F4C-4DA1-8EDE-B948EAA35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uela Cala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00EC-2855-49D4-ADBE-2C88A0BB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36E-ECCB-4B51-B685-B121132A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F6E-BC05-4976-AA99-420EF588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F69-C27D-41E9-B96F-A837BE0B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A385-F740-45A0-819F-2CAAA7136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7E2-51AC-4078-AC6E-65E85EFB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E85-22D8-4D17-9331-B8F469AF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C90-4FA1-4609-8152-7188F75F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8AB-C795-4C04-87EB-7AF54EB4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D857-FCA9-4278-BC60-BBA88F6B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C34-3773-46B0-B76E-48DFAF6E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A1CC-218F-477E-873D-9F650CD0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719D-65E5-40FD-AF19-6011B8CD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F34-9833-4222-A486-80E1B05F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B77-CC21-4FA9-ACE7-FD60201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AFA-FE28-4BBC-AF7F-EF3E7AE2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3F2-7D0C-46B6-B7EA-DC031242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435-BBD1-4625-AF25-1FD9A3E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C01-6473-4289-92BE-56BFE0EB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F0D-1114-4AD5-9844-1D443D5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6B0-7F31-4712-AB63-7CC6BEAC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7E4-71EC-4777-9A48-1A1F6B03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B55-4C30-46C6-A055-F22869E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C06-EC9F-4CEF-B78E-804D7F1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8D3-5F3C-47FB-B1BA-0A9B608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71AF-DA45-4960-8FA9-DF32043B5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dleader21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19810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novation in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676520" y="6060960"/>
            <a:ext cx="6095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ll the Elements F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 Koufman-Frederick, Watertown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838840" cy="424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" name="Text Box 14"/>
          <p:cNvSpPr/>
          <p:nvPr/>
        </p:nvSpPr>
        <p:spPr>
          <a:xfrm>
            <a:off x="7620120" y="2057400"/>
            <a:ext cx="12952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amb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Escuela Calab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evideo, Uruguay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ership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6"/>
          <p:cNvSpPr/>
          <p:nvPr/>
        </p:nvSpPr>
        <p:spPr>
          <a:xfrm>
            <a:off x="685800" y="1752480"/>
            <a:ext cx="81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what we want in our learning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with a Pre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x1Access"/>
          <p:cNvPicPr/>
          <p:nvPr/>
        </p:nvPicPr>
        <p:blipFill>
          <a:blip r:embed="rId2"/>
          <a:stretch/>
        </p:blipFill>
        <p:spPr>
          <a:xfrm>
            <a:off x="4876920" y="2514600"/>
            <a:ext cx="3886200" cy="255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ges of Successful Imple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523880" y="17524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Leader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://www.edleader21.com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st Century Skills: Rethinking How Students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go.solution-tree.com/21stcenturyskil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Powered by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ed.gov/technology/netp-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21: Learning in a Changing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s://prezi.com/secure/deb482089982c79d2f3d2296e64f99ecd1e6f776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1 Mile Guide Self-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p21.org/milegui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ges of Successful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fpg.unc.edu/~nirn/implementation/06/06_stagesimple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rizon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p.nmc.org/horizon201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mast_09"/>
          <p:cNvPicPr/>
          <p:nvPr/>
        </p:nvPicPr>
        <p:blipFill>
          <a:blip r:embed="rId2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40080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457200" y="1131840"/>
            <a:ext cx="8381880" cy="5850000"/>
            <a:chOff x="457200" y="1131840"/>
            <a:chExt cx="8381880" cy="5850000"/>
          </a:xfrm>
        </p:grpSpPr>
        <p:sp>
          <p:nvSpPr>
            <p:cNvPr id="54" name="Text Box 3"/>
            <p:cNvSpPr/>
            <p:nvPr/>
          </p:nvSpPr>
          <p:spPr>
            <a:xfrm>
              <a:off x="17377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Stu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4065840" y="6374520"/>
              <a:ext cx="1861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Faculty/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67435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573480" y="1537560"/>
              <a:ext cx="8265600" cy="46393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3949560" y="2426040"/>
              <a:ext cx="151344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3600360" y="2820960"/>
              <a:ext cx="2211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2901600" y="3610800"/>
              <a:ext cx="360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2319840" y="4301640"/>
              <a:ext cx="4772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1737720" y="4893840"/>
              <a:ext cx="5937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1271880" y="5486040"/>
              <a:ext cx="6868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57200" y="1143000"/>
              <a:ext cx="337572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aching &amp; Learn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chnology Hierarch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436120" y="4400280"/>
              <a:ext cx="454032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Leadership &amp; Administrative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2319840" y="5683680"/>
              <a:ext cx="512208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Network Infrastructure &amp; 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19840" y="4992840"/>
              <a:ext cx="488916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Technical Services &amp; 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3716640" y="3709440"/>
              <a:ext cx="2328120" cy="49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ommunicat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&amp; Collabor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3949560" y="2919600"/>
              <a:ext cx="1629720" cy="592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urriculum Appl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rot="9232800">
              <a:off x="127080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9232800">
              <a:off x="359928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9232800">
              <a:off x="627732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4764240" y="1143000"/>
              <a:ext cx="244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ahoma"/>
                </a:rPr>
                <a:t>Learning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3"/>
            <p:cNvSpPr/>
            <p:nvPr/>
          </p:nvSpPr>
          <p:spPr>
            <a:xfrm flipV="1" rot="21492600">
              <a:off x="4064040" y="1141920"/>
              <a:ext cx="698400" cy="1085400"/>
            </a:xfrm>
            <a:custGeom>
              <a:avLst/>
              <a:gdLst>
                <a:gd name="textAreaLeft" fmla="*/ 93600 w 698400"/>
                <a:gd name="textAreaRight" fmla="*/ 604800 w 698400"/>
                <a:gd name="textAreaTop" fmla="*/ 202320 h 1085400"/>
                <a:gd name="textAreaBottom" fmla="*/ 725400 h 10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1" stAng="-5400000" swAng="-5400000"/>
                  <a:lnTo>
                    <a:pt x="0" y="10409"/>
                  </a:lnTo>
                  <a:arcTo wR="21600" hR="8051" stAng="10800000" swAng="-2790649"/>
                  <a:lnTo>
                    <a:pt x="14400" y="21140"/>
                  </a:lnTo>
                  <a:lnTo>
                    <a:pt x="21600" y="17280"/>
                  </a:lnTo>
                  <a:lnTo>
                    <a:pt x="14400" y="12500"/>
                  </a:lnTo>
                  <a:lnTo>
                    <a:pt x="14400" y="15641"/>
                  </a:lnTo>
                  <a:arcTo wR="21600" hR="8051" stAng="8009351" swAng="2601152"/>
                  <a:lnTo>
                    <a:pt x="233" y="9230"/>
                  </a:lnTo>
                  <a:arcTo wR="21600" hR="8051" stAng="-10610503" swAng="5210503"/>
                  <a:close/>
                </a:path>
                <a:path fill="darkenLess" w="21600" h="21600">
                  <a:moveTo>
                    <a:pt x="21600" y="0"/>
                  </a:moveTo>
                  <a:arcTo wR="21600" hR="8051" stAng="-5400000" swAng="-5400000"/>
                  <a:lnTo>
                    <a:pt x="0" y="8051"/>
                  </a:lnTo>
                  <a:arcTo wR="21600" hR="8051" stAng="10800000" swAng="-189497"/>
                  <a:lnTo>
                    <a:pt x="233" y="9230"/>
                  </a:lnTo>
                  <a:arcTo wR="21600" hR="8051" stAng="-10610503" swAng="521050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4"/>
          <p:cNvSpPr/>
          <p:nvPr/>
        </p:nvSpPr>
        <p:spPr>
          <a:xfrm>
            <a:off x="7620120" y="6583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A. Koufman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6"/>
          <p:cNvSpPr/>
          <p:nvPr/>
        </p:nvSpPr>
        <p:spPr>
          <a:xfrm>
            <a:off x="457200" y="1219320"/>
            <a:ext cx="3200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362320" y="84240"/>
            <a:ext cx="74674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ing &amp;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ology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e Guide Self-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P21 graphic"/>
          <p:cNvPicPr/>
          <p:nvPr/>
        </p:nvPicPr>
        <p:blipFill>
          <a:blip r:embed="rId2"/>
          <a:stretch/>
        </p:blipFill>
        <p:spPr>
          <a:xfrm>
            <a:off x="1295280" y="1376280"/>
            <a:ext cx="655344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x 1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&amp;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 Creation &amp; Publi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st Century Learning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essional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 Learn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352680" y="6415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ahoma"/>
              </a:rPr>
              <a:t>FableVision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 Learning Initi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Academic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tuden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ad 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1st_century_kid"/>
          <p:cNvPicPr/>
          <p:nvPr/>
        </p:nvPicPr>
        <p:blipFill>
          <a:blip r:embed="rId2"/>
          <a:stretch/>
        </p:blipFill>
        <p:spPr>
          <a:xfrm>
            <a:off x="685800" y="1523880"/>
            <a:ext cx="343368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fessional Learning Pract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-In-Practice (T-I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k of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Assessment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21stCkid_P21"/>
          <p:cNvPicPr/>
          <p:nvPr/>
        </p:nvPicPr>
        <p:blipFill>
          <a:blip r:embed="rId2"/>
          <a:stretch/>
        </p:blipFill>
        <p:spPr>
          <a:xfrm>
            <a:off x="6477120" y="4114800"/>
            <a:ext cx="237492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k Forc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lectronic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6"/>
          <p:cNvSpPr/>
          <p:nvPr/>
        </p:nvSpPr>
        <p:spPr>
          <a:xfrm>
            <a:off x="609480" y="1600200"/>
            <a:ext cx="4421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5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3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-5-6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Child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Data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Reading &amp;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World Languag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Studies Advi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8"/>
          <p:cNvSpPr/>
          <p:nvPr/>
        </p:nvSpPr>
        <p:spPr>
          <a:xfrm>
            <a:off x="495000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Development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I-P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 Evaluation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ism Council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al Design for Learning Advis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TIPnav"/>
          <p:cNvPicPr/>
          <p:nvPr/>
        </p:nvPicPr>
        <p:blipFill>
          <a:blip r:embed="rId1"/>
          <a:stretch/>
        </p:blipFill>
        <p:spPr>
          <a:xfrm>
            <a:off x="0" y="1295280"/>
            <a:ext cx="3279600" cy="6134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1066680" y="304920"/>
            <a:ext cx="792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Screen shot 2011-01-28 at 10"/>
          <p:cNvPicPr/>
          <p:nvPr/>
        </p:nvPicPr>
        <p:blipFill>
          <a:blip r:embed="rId2"/>
          <a:stretch/>
        </p:blipFill>
        <p:spPr>
          <a:xfrm>
            <a:off x="4495680" y="2286000"/>
            <a:ext cx="32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ast_09"/>
          <p:cNvPicPr/>
          <p:nvPr/>
        </p:nvPicPr>
        <p:blipFill>
          <a:blip r:embed="rId3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2438280" y="228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ology-In-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TeachingProfiles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2:14:51Z</dcterms:created>
  <dc:creator>Watertown Public Schools Watertown, MA 02472</dc:creator>
  <dc:description/>
  <dc:language>en-US</dc:language>
  <cp:lastModifiedBy>Melissa Henriquez</cp:lastModifiedBy>
  <cp:lastPrinted>2011-02-13T19:09:25Z</cp:lastPrinted>
  <dcterms:modified xsi:type="dcterms:W3CDTF">2011-04-18T11:44:28Z</dcterms:modified>
  <cp:revision>54</cp:revision>
  <dc:subject/>
  <dc:title>Watertown Public Schools Professional Learning …Forward</dc:title>
</cp:coreProperties>
</file>